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468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27600" y="-468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A71521-2831-4269-BCD4-56DB384ADD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30320" y="8791560"/>
            <a:ext cx="12726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4E15BC1F-F996-41AA-BEEE-DF399AE9E767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69640" y="701640"/>
            <a:ext cx="4592520" cy="344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920" rIns="88920" tIns="44640" bIns="4464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23400" y="4384440"/>
            <a:ext cx="5086440" cy="4152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2520" cy="34466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3400" y="4384440"/>
            <a:ext cx="5086440" cy="4152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2520" cy="34466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23400" y="4384440"/>
            <a:ext cx="508644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0AB9535-E96C-4A59-88CB-491BD135348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698D2B3-2B19-4419-B1BA-1A423DEACEC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2520" cy="3446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400" y="4384440"/>
            <a:ext cx="5086440" cy="4152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fically, you have learn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bout the Team Software Proc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w to launch a team using the T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w to guide a team in running their projects using the T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r obligations as a launch coa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w to introduce the TSP into an organ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2520" cy="3446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23400" y="4384440"/>
            <a:ext cx="508644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7CF42A-41E5-47FE-B961-B90E906838D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F42C7ED-29AA-44F1-9756-CA02A3E946D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3240" y="701640"/>
            <a:ext cx="4594320" cy="34466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5560" y="4383000"/>
            <a:ext cx="508320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AD5402A9-3490-4A6C-8704-7F78B00F5C0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437F0420-C3E9-4EAD-9A85-617F38536F7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ermission@sei.cmu.ed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Course Summary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You Were He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ilding systems that depend on software is among the most challenging technical endeavors of our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oftware is developed by teams. 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job of the software development team is to develop and deliver software produ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f high qual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thin co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achieve these objectives, we must learn how to transition disciplined methods into an organiz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need coaches to help them use disciplined method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You’ve Learne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course, you were introduced to disciplined methods that a team can use to produce knowledge work, such as softw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learned how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ly disciplined metho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the PSP concepts and transition them into a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seen the potential benefi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17360" y="1495080"/>
            <a:ext cx="780084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now completed a major step in becoming an associate coach or c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till have to coach a team through the TSP cycle under the guidance of an SEI-Certified TSP Coach or Mentor coach, depending on your coaching trac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r teams use the PSP and TSP, they will be rewarded with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ing commitments that they can ke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atisfaction of belonging to a successful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a large degree, the team’s success depends on you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ass Eval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ease complete the evaluation shee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the forms now and give them to an instruct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 areas for course improv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ent on the fac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the instructors and materi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 course additions and dele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 areas where the timing was too slow or fa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eedback session:  15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78000" y="1828800"/>
            <a:ext cx="808344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© 2013 Carnegie Mellon University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This material is distributed by the SEI  only to course attendees for their own individual study.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Except for the U.S. government purposes described below, this material SHALL NOT be reproduced or used in any other manner without requesting formal permission from the Software Engineering Institute at 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permission@sei.cmu.edu</a:t>
            </a: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This material was created in the performance of Federal Government Contract Number FA8721-05-C-0003 with Carnegie Mellon University for the operation of the Software Engineering Institute, a federally funded research and development center. The U.S. Government's rights to use, modify, reproduce, release, perform, display, or disclose this material are restricted by the Rights in Technical Data-Noncommercial Items clauses (DFAR 252-227.7013 and DFAR 252-227.7013 Alternate I) contained in the above identified contract.  Any reproduction of this material or portions thereof marked with this legend must also reproduce the disclaimers contained on this slide.  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Although the rights granted by contract do not require course attendance to use this material for U.S. Government purposes, the SEI recommends attendance to ensure proper understanding.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THE MATERIAL IS PROVIDED ON AN “AS IS” BASIS, AND CARNEGIE MELLON DISCLAIMS ANY AND ALL WARRANTIES, IMPLIED OR OTHERWISE (INCLUDING, BUT NOT LIMITED TO, WARRANTY OF FITNESS FOR A PARTICULAR PURPOSE, RESULTS OBTAINED FROM USE OF THE MATERIAL, MERCHANTABILITY, AND/OR NON-INFRINGEMENT). 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49Z</dcterms:modified>
  <cp:revision>215</cp:revision>
  <dc:subject/>
  <dc:title>No Slide Title</dc:title>
</cp:coreProperties>
</file>